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797-FBCC-4878-80E4-0D835FB6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6E9-1B4F-4E5E-A987-71939A39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123-8BB2-492A-97EE-D6EAF908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428-E333-454E-8A0C-D58F4C5A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FDA-5C87-4F3B-8370-6F6FEE07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F78-D721-4A6D-807D-22C9B899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84D-047E-4C9F-9FC5-F62A06C1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AD9-E1C4-42CF-82CA-939018D9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6F7-5063-4C89-B2B8-F427D8E0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C61-E6DD-433D-8F9D-C0645914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AA3-5DBF-4FD4-9040-81052FA0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8B8-CB1E-49E5-B22D-93D3BB7F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7BED-EA7A-4964-B16F-9EF76A565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4.6: Polynomial and Rational Inequalities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polynomial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rational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Solving polynomial inequalities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inequality so that zero is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inequality as if it were a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boundary number (the solutions you just found) to separate possible solutions into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est values or a graph to determine which intervals are greater or less than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les Regular"/>
              </a:rPr>
              <a:t>Solving polynomial equations (2)</a:t>
            </a:r>
            <a:endParaRPr b="0" lang="en-US" sz="36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0" y="1676520"/>
          <a:ext cx="3962520" cy="408924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219320"/>
              </a:tblGrid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or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Solving rational inequalities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inequality in the form of a rat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p(x)=0 and q(x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s are your boundary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 which intervals are positive and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Solving rational inequalities (2)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0" y="1676520"/>
          <a:ext cx="3962520" cy="408924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219320"/>
              </a:tblGrid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or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5, 16,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36-46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7:01:52Z</dcterms:created>
  <dc:creator>nuhs</dc:creator>
  <dc:description/>
  <dc:language>en-US</dc:language>
  <cp:lastModifiedBy>nuhs</cp:lastModifiedBy>
  <dcterms:modified xsi:type="dcterms:W3CDTF">2008-02-19T21:13:22Z</dcterms:modified>
  <cp:revision>4</cp:revision>
  <dc:subject/>
  <dc:title>4.6: Polynomial and Rational Inequalities</dc:title>
</cp:coreProperties>
</file>